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883-6D85-4FB9-A5C7-5B3A9BB5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0455-7A16-4AF4-8D7B-FB9643B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B62-92A6-411A-B39C-D8D9A156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09D-44C0-4954-8C3F-843DFA22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D14-4370-46AD-A0C8-CC613E9D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E41-879C-450F-A91F-474A985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464-45A6-489F-BFD2-774A047D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8FF-7A5A-433B-A499-CD2B74F2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4A6-E98C-405F-88C7-41A939FC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5A6-2784-4C38-A735-A033F709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3B0C-1994-4EF6-AFAB-96D8C858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F2A-B373-4FB5-9D2C-319555C7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BA4-8AFB-4AEB-91C0-CED87BF6F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040" y="534960"/>
            <a:ext cx="7759800" cy="1959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змерение заряда пылинки по штарковскому уширению спектральных линий атомов водор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4000" y="3168720"/>
            <a:ext cx="86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аль А. Ф., Сивохин Д. В., Филиппов А.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08200" y="465444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ГНЦ РФ ТРИНИ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550800" y="1413000"/>
          <a:ext cx="3249720" cy="113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1413000"/>
                    <a:ext cx="32497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568840" y="1440000"/>
          <a:ext cx="2594160" cy="132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8840" y="1440000"/>
                    <a:ext cx="25941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722760" y="303120"/>
            <a:ext cx="46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число атомов в сферическом сл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1027080"/>
            <a:ext cx="24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ереход от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9400" y="233280"/>
            <a:ext cx="287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(r)dr=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28760" y="3908520"/>
                <a:ext cx="8034120" cy="15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d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q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328920" y="2738520"/>
                <a:ext cx="26766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Δω</m:t>
                        </m:r>
                      </m:e>
                      <m: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87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Контур линии при дебаевской экраниров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71720" y="1481040"/>
          <a:ext cx="729288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481040"/>
                    <a:ext cx="7292880" cy="4897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8600" y="196560"/>
            <a:ext cx="835344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Механизмы уширения спектральных ли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7040" y="1833480"/>
            <a:ext cx="7773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электрон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леровское уши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силами Ван дер Вааль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ширение полем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онансное ушире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9080" y="378000"/>
            <a:ext cx="789444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и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ширина линии в квазистатическом приближении для линейного эффекта штар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95680" y="2124000"/>
          <a:ext cx="2189160" cy="5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2124000"/>
                    <a:ext cx="21891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695680" y="2778120"/>
          <a:ext cx="384480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2778120"/>
                    <a:ext cx="384480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641680" y="3875040"/>
            <a:ext cx="38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теории Хольцмарка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27320" y="4792680"/>
          <a:ext cx="30733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27320" y="4792680"/>
                    <a:ext cx="3073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637600" y="4849920"/>
            <a:ext cx="9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ГС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51240" y="5657760"/>
            <a:ext cx="4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917960" y="5573880"/>
                <a:ext cx="190368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639880" y="5715000"/>
            <a:ext cx="309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ля лин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8760" y="165240"/>
            <a:ext cx="625788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ширение электронами</a:t>
            </a:r>
            <a:br>
              <a:rPr sz="2800"/>
            </a:b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ударное приближ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65240" y="1243080"/>
          <a:ext cx="244800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5240" y="1243080"/>
                    <a:ext cx="244800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99040" y="1235160"/>
          <a:ext cx="1949400" cy="6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9040" y="1235160"/>
                    <a:ext cx="194940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6461280" y="2436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64600" y="188604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Константа кулоновского взаимо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28840" y="3189240"/>
            <a:ext cx="119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lt;&lt;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5240" y="4105440"/>
          <a:ext cx="6902280" cy="122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5240" y="4105440"/>
                    <a:ext cx="69022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840120" y="5699160"/>
          <a:ext cx="14353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40120" y="5699160"/>
                    <a:ext cx="14353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287320" y="5648400"/>
            <a:ext cx="6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36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85840" y="2484360"/>
          <a:ext cx="438624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5840" y="2484360"/>
                    <a:ext cx="43862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89960" y="2523960"/>
            <a:ext cx="75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2240" y="343080"/>
            <a:ext cx="607824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Доплеровская ши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89000" y="1090440"/>
          <a:ext cx="2247840" cy="5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1090440"/>
                    <a:ext cx="22478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78520" y="1085760"/>
          <a:ext cx="20541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8520" y="1085760"/>
                    <a:ext cx="2054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747960" y="110484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49200" y="1916280"/>
          <a:ext cx="6021720" cy="142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9200" y="1916280"/>
                    <a:ext cx="60217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003480" y="3503520"/>
          <a:ext cx="2019240" cy="58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03480" y="3503520"/>
                    <a:ext cx="20192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166360" y="353376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4224240"/>
            <a:ext cx="70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Уширение силами Ван дер Вааль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24040" y="4943520"/>
          <a:ext cx="3238560" cy="63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4040" y="4943520"/>
                    <a:ext cx="32385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933480" y="5996160"/>
          <a:ext cx="181440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33480" y="5996160"/>
                    <a:ext cx="181440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94120" y="562932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1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335640" y="6008760"/>
          <a:ext cx="16797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35640" y="6008760"/>
                    <a:ext cx="1679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453000" y="554184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=1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-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ат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45440" y="59612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52480" y="59720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7724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Штарковское расщепление полем пыли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30200" y="1650960"/>
          <a:ext cx="2489400" cy="84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0200" y="1650960"/>
                    <a:ext cx="248940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172040" y="173844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103720" y="1900080"/>
          <a:ext cx="1195560" cy="3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1900080"/>
                    <a:ext cx="11955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524640" y="1849320"/>
          <a:ext cx="882720" cy="37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24640" y="1849320"/>
                    <a:ext cx="882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041480" y="2616120"/>
          <a:ext cx="6931080" cy="14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1480" y="2616120"/>
                    <a:ext cx="6931080" cy="14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760920" y="4240080"/>
          <a:ext cx="1877760" cy="79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60920" y="4240080"/>
                    <a:ext cx="187776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336680" y="5375160"/>
          <a:ext cx="21574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6680" y="5375160"/>
                    <a:ext cx="2157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031000" y="553392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q-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заряд пылин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201240"/>
            <a:ext cx="69390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Интегрирование контура линии по пространству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17600" y="1233360"/>
          <a:ext cx="8280360" cy="13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233360"/>
                    <a:ext cx="8280360" cy="13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63720" y="2532240"/>
          <a:ext cx="724536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63720" y="2532240"/>
                    <a:ext cx="7245360" cy="3962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720800" y="1050840"/>
          <a:ext cx="608652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1050840"/>
                    <a:ext cx="6086520" cy="5624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044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азотной температур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82640" y="174600"/>
            <a:ext cx="75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висимость контура линии от заряда пыли при комнатной темп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20760" y="1428840"/>
          <a:ext cx="569304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0760" y="1428840"/>
                    <a:ext cx="569304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3:37:09Z</dcterms:created>
  <dc:creator>Mir</dc:creator>
  <dc:description/>
  <dc:language>en-US</dc:language>
  <cp:lastModifiedBy>Наташа</cp:lastModifiedBy>
  <dcterms:modified xsi:type="dcterms:W3CDTF">2002-08-31T19:16:51Z</dcterms:modified>
  <cp:revision>188</cp:revision>
  <dc:subject/>
  <dc:title>ГНЦ РФ  «Троицкий институт инновационных и термоядерных исследований»</dc:title>
</cp:coreProperties>
</file>