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10.wmf" ContentType="image/x-wmf"/>
  <Override PartName="/ppt/media/image47.wmf" ContentType="image/x-wmf"/>
  <Override PartName="/ppt/media/image2.png" ContentType="image/png"/>
  <Override PartName="/ppt/media/image14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56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9.wmf" ContentType="image/x-wmf"/>
  <Override PartName="/ppt/media/image65.wmf" ContentType="image/x-wmf"/>
  <Override PartName="/ppt/media/image28.wmf" ContentType="image/x-wmf"/>
  <Override PartName="/ppt/media/image25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24.wmf" ContentType="image/x-wmf"/>
  <Override PartName="/ppt/media/image63.wmf" ContentType="image/x-wmf"/>
  <Override PartName="/ppt/media/image26.wmf" ContentType="image/x-wmf"/>
  <Override PartName="/ppt/media/image23.wmf" ContentType="image/x-wmf"/>
  <Override PartName="/ppt/media/image15.wmf" ContentType="image/x-wmf"/>
  <Override PartName="/ppt/media/image6.png" ContentType="image/png"/>
  <Override PartName="/ppt/media/image40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17.png" ContentType="image/png"/>
  <Override PartName="/ppt/media/image5.png" ContentType="image/png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16.png" ContentType="image/png"/>
  <Override PartName="/ppt/media/image4.png" ContentType="image/png"/>
  <Override PartName="/ppt/media/image12.wmf" ContentType="image/x-wmf"/>
  <Override PartName="/ppt/media/image49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7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843-FC3E-4573-932F-F7BFBD83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CA7-8061-4302-9985-8D9BA360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DF5-5E1E-435D-9486-3210D505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4F6-05D5-4792-AD01-9E7C64F5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507-E14C-4A8D-952C-02AD9022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6CD-56AA-486A-8014-C07A6DB3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994-D965-4B39-9240-326AA6EA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AB5-C554-4C05-B044-3F796594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8FC-98F0-43C7-A30E-7B80B0FC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7E9-7916-4132-A054-0B0CDB4C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ED1B-0B4D-4F9E-BE58-4C6B9DC2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0F2-78DB-4AC3-95D4-65D090B6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5DE2-7F46-44A1-8A76-3A57B4F18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2722320"/>
            <a:ext cx="7759800" cy="197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следование процессов в пылевой плазме при повышенных давления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6000" y="4946760"/>
            <a:ext cx="8702640" cy="173808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Школа молодых уче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тоды и техника экспериментального исследования процессов самоорганизации упорядоченных структур в плазменно-пылевых образованиях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85880" y="0"/>
          <a:ext cx="4062600" cy="24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5880" y="0"/>
                    <a:ext cx="40626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Ежегодная выработка электроэнергии атомными электростанциями в Ро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83520" y="3335400"/>
            <a:ext cx="66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На атомных электростанция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ырабатывается около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2.5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кг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r</a:t>
            </a:r>
            <a:r>
              <a:rPr b="0" lang="en-US" sz="3600" spc="-1" strike="noStrike" baseline="30000">
                <a:solidFill>
                  <a:srgbClr val="00cc99"/>
                </a:solidFill>
                <a:latin typeface="Times New Roman"/>
              </a:rPr>
              <a:t>90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на 1 млрд. кВт</a:t>
            </a:r>
            <a:r>
              <a:rPr b="0" lang="en-US" sz="3600" spc="-1" strike="noStrike">
                <a:solidFill>
                  <a:srgbClr val="00cc99"/>
                </a:solidFill>
                <a:latin typeface="Symbol"/>
                <a:ea typeface="Symbol"/>
              </a:rPr>
              <a:t>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ча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ыработанной электроэнер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4120" y="1360440"/>
            <a:ext cx="8377200" cy="5235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920" y="171000"/>
            <a:ext cx="879624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Эффективность выхода энергии </a:t>
            </a:r>
            <a:r>
              <a:rPr b="0" lang="ru-RU" sz="3600" spc="-1" strike="noStrike">
                <a:solidFill>
                  <a:srgbClr val="6600ff"/>
                </a:solidFill>
                <a:latin typeface="Symbol"/>
                <a:ea typeface="Symbol"/>
              </a:rPr>
              <a:t>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частиц в зависимости от радиуса пылевых части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393920"/>
            <a:ext cx="8313840" cy="5172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920" y="171000"/>
            <a:ext cx="879624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Эффективность выхода энергии </a:t>
            </a:r>
            <a:r>
              <a:rPr b="0" lang="ru-RU" sz="3600" spc="-1" strike="noStrike">
                <a:solidFill>
                  <a:srgbClr val="6600ff"/>
                </a:solidFill>
                <a:latin typeface="Symbol"/>
                <a:ea typeface="Symbol"/>
              </a:rPr>
              <a:t>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частиц в зависимости от разме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3720" y="1322280"/>
            <a:ext cx="8313840" cy="5172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847800" y="2371680"/>
          <a:ext cx="7775640" cy="42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2371680"/>
                    <a:ext cx="777564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6600" y="169920"/>
            <a:ext cx="77724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Расчетный заряд пылевых частиц в ксеноне </a:t>
            </a:r>
            <a:br>
              <a:rPr sz="3600"/>
            </a:b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при </a:t>
            </a:r>
            <a:r>
              <a:rPr b="0" i="1" lang="ru-RU" sz="36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36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cm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ru-RU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ru-RU" sz="3600" spc="-1" strike="noStrike" baseline="-25000">
                <a:solidFill>
                  <a:srgbClr val="3333cc"/>
                </a:solidFill>
                <a:latin typeface="Times New Roman"/>
              </a:rPr>
              <a:t>ion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6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cm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-3.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Эволюция во времени  заряда пылевых частиц в пучковой плазме ксенона и воздух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1120" y="1332000"/>
            <a:ext cx="83138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3600" y="23472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асчетный заряд пылевых частиц в АППБ с электрической мощностью 10 кВт  </a:t>
            </a:r>
            <a:br>
              <a:rPr sz="2800"/>
            </a:b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ри объёме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и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 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на основе изотопа Sr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49160" y="166680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666800"/>
                    <a:ext cx="7702560" cy="479448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3600" y="23472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араметр неидеальности пылевой плазмы </a:t>
            </a:r>
            <a:br>
              <a:rPr sz="2800"/>
            </a:b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в АППБ с электрической мощностью 10 кВт  </a:t>
            </a:r>
            <a:br>
              <a:rPr sz="2800"/>
            </a:b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ри объёме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и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 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на основе изотопа Sr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65280" y="173664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1736640"/>
                    <a:ext cx="7702560" cy="4794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4680" y="609480"/>
            <a:ext cx="7913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Times New Roman"/>
              </a:rPr>
              <a:t>Экспериментальное исследование пылевой плазмы с внешним источником ион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2880" y="2981160"/>
            <a:ext cx="8643960" cy="350604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сточник ионизации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электронная пушк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энергия электронов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120 кэ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лотность тока пучка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до 300 мкА/см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сследованные газы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гелий, азот; давление газа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1 ат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Концентрация пылевых частиц - 10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см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; радиус 12</a:t>
            </a:r>
            <a:r>
              <a:rPr b="0" lang="ru-RU" sz="32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3 мкм; материал - стеклоуглер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Схема экспериментальной установ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et-up2" descr=""/>
          <p:cNvPicPr/>
          <p:nvPr/>
        </p:nvPicPr>
        <p:blipFill>
          <a:blip r:embed="rId1"/>
          <a:stretch/>
        </p:blipFill>
        <p:spPr>
          <a:xfrm>
            <a:off x="271440" y="1874880"/>
            <a:ext cx="86346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Вид сверху на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экспериментальную установ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et-up" descr=""/>
          <p:cNvPicPr/>
          <p:nvPr/>
        </p:nvPicPr>
        <p:blipFill>
          <a:blip r:embed="rId1"/>
          <a:stretch/>
        </p:blipFill>
        <p:spPr>
          <a:xfrm>
            <a:off x="142920" y="2232000"/>
            <a:ext cx="88678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41320" y="167760"/>
            <a:ext cx="7772400" cy="2124360"/>
          </a:xfrm>
          <a:prstGeom prst="rect">
            <a:avLst/>
          </a:prstGeom>
          <a:solidFill>
            <a:srgbClr val="ccffcc"/>
          </a:solidFill>
          <a:ln w="648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Филиппов А.В., Паль А.Ф., Старостин А.Н., Серов А.О., Дятко Н.А., Сивохин Д.В. и др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884240" y="5981760"/>
            <a:ext cx="5238720" cy="681120"/>
          </a:xfrm>
          <a:prstGeom prst="rect">
            <a:avLst/>
          </a:prstGeom>
          <a:solidFill>
            <a:srgbClr val="99ccff"/>
          </a:solidFill>
          <a:ln w="648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av@triniti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LL2" descr=""/>
          <p:cNvPicPr/>
          <p:nvPr/>
        </p:nvPicPr>
        <p:blipFill>
          <a:blip r:embed="rId1"/>
          <a:stretch/>
        </p:blipFill>
        <p:spPr>
          <a:xfrm>
            <a:off x="4057560" y="4635360"/>
            <a:ext cx="1386000" cy="1211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6800" y="2994120"/>
            <a:ext cx="7943760" cy="1373760"/>
          </a:xfrm>
          <a:prstGeom prst="rect">
            <a:avLst/>
          </a:prstGeom>
          <a:solidFill>
            <a:srgbClr val="33cccc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НЦ РФ Троицкий институт инновационных и термоядерных исслед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42190 Троицк,  Московская об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85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Осциллограммы тока НР в гелии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=1 атм,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90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/c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, U = 780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720" y="6397560"/>
            <a:ext cx="7913880" cy="460440"/>
          </a:xfrm>
          <a:prstGeom prst="rect">
            <a:avLst/>
          </a:prstGeom>
          <a:solidFill>
            <a:srgbClr val="ccffc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.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.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68160" y="156060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60600"/>
                    <a:ext cx="7702560" cy="479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850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Осциллограммы тока НР в азоте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=1 атм,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9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/cм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U = 2.1 к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7720" y="6397560"/>
            <a:ext cx="7913520" cy="460440"/>
          </a:xfrm>
          <a:prstGeom prst="rect">
            <a:avLst/>
          </a:prstGeom>
          <a:solidFill>
            <a:srgbClr val="ccffc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8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65200" y="153504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1535040"/>
                    <a:ext cx="770256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69560"/>
            <a:ext cx="7785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Осциллограммы тока НР в азоте</a:t>
            </a:r>
            <a:r>
              <a:rPr b="0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=1 атм,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9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/cм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U = 2.9 к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1400" y="6397560"/>
            <a:ext cx="7913880" cy="460440"/>
          </a:xfrm>
          <a:prstGeom prst="rect">
            <a:avLst/>
          </a:prstGeom>
          <a:solidFill>
            <a:srgbClr val="ccffc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8.8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8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74800" y="1674720"/>
          <a:ext cx="7559640" cy="470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1674720"/>
                    <a:ext cx="7559640" cy="4705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Приведенный ток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НР в He и N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на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150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9240" y="64008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U = 2.1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, 2.9 кВ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U = 480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, 780 В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95160" y="150984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509840"/>
                    <a:ext cx="7702560" cy="479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1840" y="-360"/>
            <a:ext cx="85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Приведенный ток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НР в He и N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на 400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63640" y="64008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U = 2.1 кВ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: U = 480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, 780 В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28800" y="135252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352520"/>
                    <a:ext cx="7702560" cy="479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0360" y="295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Times New Roman"/>
              </a:rPr>
              <a:t>Численное моделирование процессов в пылевой плазмы с внешним источником ион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840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Гидродинамическая модель зарядки пылевых част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280" y="1687680"/>
            <a:ext cx="8952120" cy="45590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Условия применимости: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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r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d;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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r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d,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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r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радиус пылевых частиц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характерный размер области нарушения квазинейтральности плазмы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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r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возможен локальный подх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&gt;&gt; r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требуется учет нелокальности ФРЭЭ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I. Основные уравнения гидродинамической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33480" y="2774880"/>
          <a:ext cx="732960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2774880"/>
                    <a:ext cx="7329600" cy="104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157400" y="1862280"/>
            <a:ext cx="7024680" cy="520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Уравнение непрерывности для электр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280" y="4524480"/>
            <a:ext cx="8950320" cy="520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авнение непрерывности для положительных и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3360" y="5392800"/>
          <a:ext cx="8040600" cy="10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360" y="5392800"/>
                    <a:ext cx="8040600" cy="104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0240" y="20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Основные уравнения гидродинамической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22640" y="2716200"/>
          <a:ext cx="488952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2716200"/>
                    <a:ext cx="4889520" cy="104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01600" y="1843200"/>
            <a:ext cx="8745480" cy="520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авнение непрерывности для отрицательных и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480" y="3987720"/>
            <a:ext cx="3695040" cy="520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Уравнение Пуасс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73320" y="4834080"/>
          <a:ext cx="46101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3320" y="4834080"/>
                    <a:ext cx="4610160" cy="531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255840" y="5662440"/>
          <a:ext cx="2578320" cy="4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55840" y="5662440"/>
                    <a:ext cx="2578320" cy="48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II.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Основные уравнения гидродинамической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88800" y="1851120"/>
            <a:ext cx="6529680" cy="520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Уравнение баланса энергии электр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93880" y="2548080"/>
          <a:ext cx="73292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548080"/>
                    <a:ext cx="7329240" cy="1066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68280" y="4565520"/>
          <a:ext cx="4076640" cy="5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280" y="4565520"/>
                    <a:ext cx="4076640" cy="5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141880" y="4476600"/>
          <a:ext cx="35942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1880" y="4476600"/>
                    <a:ext cx="3594240" cy="520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108400" y="5586480"/>
          <a:ext cx="384840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8400" y="5586480"/>
                    <a:ext cx="3848400" cy="520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28760" y="5621400"/>
          <a:ext cx="387324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760" y="5621400"/>
                    <a:ext cx="3873240" cy="531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335600" y="3794040"/>
            <a:ext cx="6037560" cy="520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оки определяются соотнош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8600" y="196560"/>
            <a:ext cx="835344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Автономный источник электрической энергии на основе долгоживущих радиоактивных изотопов и </a:t>
            </a:r>
            <a:r>
              <a:rPr b="0" lang="en-US" sz="3600" spc="-1" strike="noStrike">
                <a:solidFill>
                  <a:srgbClr val="6600ff"/>
                </a:solidFill>
                <a:latin typeface="Times New Roman"/>
              </a:rPr>
              <a:t>плазменно - 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пылевых кристаллических структу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1600" y="5251320"/>
            <a:ext cx="743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Атомная плазменно-пылевая батаре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АПП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ilippov_eng" descr=""/>
          <p:cNvPicPr/>
          <p:nvPr/>
        </p:nvPicPr>
        <p:blipFill>
          <a:blip r:embed="rId1"/>
          <a:stretch/>
        </p:blipFill>
        <p:spPr>
          <a:xfrm>
            <a:off x="2968560" y="3068640"/>
            <a:ext cx="30448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320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V.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Граничные условия  гидродинамической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32040" y="1816200"/>
          <a:ext cx="698652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816200"/>
                    <a:ext cx="6986520" cy="1320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237360" y="3332160"/>
          <a:ext cx="2374920" cy="12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37360" y="3332160"/>
                    <a:ext cx="2374920" cy="1282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041480" y="5477040"/>
          <a:ext cx="703728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1480" y="5477040"/>
                    <a:ext cx="7037280" cy="82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10400" y="3510000"/>
            <a:ext cx="459108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ффективные граничные усло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527200" y="2980800"/>
            <a:ext cx="587520" cy="52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2200" y="3743280"/>
            <a:ext cx="1160640" cy="257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5880" y="19638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Times New Roman"/>
              </a:rPr>
              <a:t>Численное моделирование процессов в пылевой плазме с помощью локальной модели зарядки пылевых част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5840" y="172800"/>
            <a:ext cx="83739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Эволюция заряда во времени в азоте при разных скоростях ионизации</a:t>
            </a:r>
            <a:br>
              <a:rPr sz="3600"/>
            </a:b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188748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87480"/>
                    <a:ext cx="7702560" cy="4794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5840" y="172800"/>
            <a:ext cx="83739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Эволюция заряда во времени в азоте при разных скоростях ионизации</a:t>
            </a:r>
            <a:br>
              <a:rPr sz="3600"/>
            </a:b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25320" y="188748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87480"/>
                    <a:ext cx="7702560" cy="4794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2520" y="194760"/>
            <a:ext cx="86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Аппроксимация потенциала пылевой частицы потенциалом Дебая</a:t>
            </a:r>
            <a:br>
              <a:rPr sz="3600"/>
            </a:b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Т = 300 К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87320" y="1646280"/>
          <a:ext cx="7424640" cy="462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46280"/>
                    <a:ext cx="7424640" cy="462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423800" y="6354720"/>
            <a:ext cx="63097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5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6560" y="50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Зависимость дебаевского радиуса от скорости ионизации газа в азоте.</a:t>
            </a:r>
            <a:br>
              <a:rPr sz="3600"/>
            </a:b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08120" y="206388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2063880"/>
                    <a:ext cx="7702560" cy="479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6560" y="50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Зависимость дебаевского радиуса от скорости ионизации газа в азоте.</a:t>
            </a:r>
            <a:br>
              <a:rPr sz="3600"/>
            </a:b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080" y="189072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890720"/>
                    <a:ext cx="7702560" cy="479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4480" y="180720"/>
            <a:ext cx="87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ношение энергии взаимодействия пылевых частиц к тепловой в пучковой плазме азота. </a:t>
            </a:r>
            <a:br>
              <a:rPr sz="2800"/>
            </a:b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T = 300 K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735120" y="188928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889280"/>
                    <a:ext cx="770256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4480" y="180720"/>
            <a:ext cx="87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ношение энергии взаимодействия пылевых частиц к тепловой в пучковой плазме азота.</a:t>
            </a:r>
            <a:br>
              <a:rPr sz="2800"/>
            </a:b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T = 77 K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47720" y="167796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67796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7520" y="154116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Times New Roman"/>
              </a:rPr>
              <a:t>Численное моделирование процессов в пылевой плазме с помощью нелокальной модели зарядки пылевых частиц, построенной  на основе нелокального метода мо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8040" y="0"/>
            <a:ext cx="7836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Схема атомной батареи на основе Kr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85</a:t>
            </a:r>
            <a:br>
              <a:rPr sz="3600"/>
            </a:b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с фотовольтаической ячей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ora_1" descr=""/>
          <p:cNvPicPr/>
          <p:nvPr/>
        </p:nvPicPr>
        <p:blipFill>
          <a:blip r:embed="rId1"/>
          <a:stretch/>
        </p:blipFill>
        <p:spPr>
          <a:xfrm>
            <a:off x="1130400" y="1036800"/>
            <a:ext cx="6995880" cy="4867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78760" y="6029280"/>
            <a:ext cx="7683480" cy="8254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. Hora, R. Hopfl, M. A. Prelas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AT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Advanced Worksho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Wide Bandgap Material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Minsk, 1994, p.4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6040" y="-360"/>
            <a:ext cx="8791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ФРЭЭ в пучковой плазме Не при </a:t>
            </a:r>
            <a:r>
              <a:rPr b="0" i="1" lang="ru-RU" sz="3600" spc="-1" strike="noStrike">
                <a:solidFill>
                  <a:srgbClr val="6600ff"/>
                </a:solidFill>
                <a:latin typeface="Times New Roman"/>
              </a:rPr>
              <a:t>р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=1 атм и при различных скоростях ионизации га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83400" y="6218280"/>
            <a:ext cx="5334120" cy="51012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2 -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…, 9 -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25748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5748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920" y="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Заряд уединенной пылевой частицы радиусом 10 мкм в He при </a:t>
            </a:r>
            <a:r>
              <a:rPr b="0" i="1" lang="ru-RU" sz="3200" spc="-1" strike="noStrike">
                <a:solidFill>
                  <a:srgbClr val="6600ff"/>
                </a:solidFill>
                <a:latin typeface="Times New Roman"/>
              </a:rPr>
              <a:t>p=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1 а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3920" y="5951520"/>
            <a:ext cx="8735760" cy="74556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асчет с коэффициентом ВЭЭ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0.1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1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счет при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0.1 с условие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; 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аналитическая теор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5 - ПО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49160" y="103356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03356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Заряд уединенных пылевых частиц разного радиуса в He при </a:t>
            </a:r>
            <a:r>
              <a:rPr b="0" i="1" lang="ru-RU" sz="3600" spc="-1" strike="noStrike">
                <a:solidFill>
                  <a:srgbClr val="6600ff"/>
                </a:solidFill>
                <a:latin typeface="Times New Roman"/>
              </a:rPr>
              <a:t>p=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1 ат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7960" y="6276960"/>
            <a:ext cx="8736120" cy="44064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чет с коэффициентом ВЭЭ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0.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5 мкм; 2 - 10 мкм; 3 - 20 мк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20720" y="131436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314360"/>
                    <a:ext cx="7702560" cy="479448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Установившиеся радиальные распределения температуры электр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52440" y="1285920"/>
          <a:ext cx="8423280" cy="52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85920"/>
                    <a:ext cx="8423280" cy="524340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Температура электронов в гелии при атмосферном давлени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845320"/>
            <a:ext cx="8398080" cy="100872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- расчет на основе уравнения баланса энерги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- расчет на основе численного решения уравнения Больцмана для ФРЭЭ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- температура электронов около пылевой частиц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49160" y="103032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03032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Установившиеся радиальные распределения электронов и и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5840" y="6149880"/>
            <a:ext cx="7467840" cy="78732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 мк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1 мкА/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2 -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кА/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3 - 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кА/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Xe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3.6 м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62120" y="133200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3200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Установившиеся радиальные распределения потенциа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92520" y="6454800"/>
            <a:ext cx="4559040" cy="44064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1, 2 -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3 - 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4 -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кA/c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49160" y="122868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228680"/>
                    <a:ext cx="770256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Установившиеся радиальные распределения потенциа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35120" y="6191280"/>
            <a:ext cx="5167440" cy="44064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1, 2 -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3 - 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4 -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кA/c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35120" y="128592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285920"/>
                    <a:ext cx="770256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Установившиеся радиальные распределения отдельных членов в уравнении баланса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920" y="6149880"/>
            <a:ext cx="8736120" cy="78732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кА/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1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2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4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баланс всех член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35120" y="128592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28592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Установившиеся радиальные распределения отдельных членов в уравнении баланса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7960" y="6149880"/>
            <a:ext cx="8736120" cy="78732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кА/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1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2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4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баланс всех член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92280" y="120168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201680"/>
                    <a:ext cx="7702560" cy="479448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480" y="-360"/>
            <a:ext cx="89215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хема атомной батареи с фотоячейкой с использованием радиоизотопа в виде аэроз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ora_2" descr=""/>
          <p:cNvPicPr/>
          <p:nvPr/>
        </p:nvPicPr>
        <p:blipFill>
          <a:blip r:embed="rId1"/>
          <a:stretch/>
        </p:blipFill>
        <p:spPr>
          <a:xfrm>
            <a:off x="1068480" y="1009800"/>
            <a:ext cx="6896160" cy="4852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36040" y="6029280"/>
            <a:ext cx="6066720" cy="8254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.A.Prelas, F.P.Boody, M.S.Zedi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Space Nuclear Power Syste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1986, v.IV, p.2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Нагрев электр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75720" y="1168560"/>
            <a:ext cx="59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е применимости постоя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ных транспортных коэффиц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560" y="4146480"/>
            <a:ext cx="8109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кА/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0.025 эВ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25 эВ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10 мк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м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 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868400" y="2241720"/>
          <a:ext cx="53215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2241720"/>
                    <a:ext cx="53215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Установившийся потенциал пылевой части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1880" y="6207120"/>
            <a:ext cx="7635960" cy="51012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 мкм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10 мкм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20 мкм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ОО потенц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65280" y="131616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131616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Связь потенциала с заряд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5320" y="1154160"/>
            <a:ext cx="765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ь потенциала с зарядом дается граничным услови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е в сферически-симметричном случае имеет ви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38240" y="1844640"/>
          <a:ext cx="543564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1844640"/>
                    <a:ext cx="543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496960" y="3378240"/>
          <a:ext cx="6351840" cy="116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6960" y="3378240"/>
                    <a:ext cx="635184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8400" y="3554280"/>
            <a:ext cx="15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V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енц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805120" y="5257800"/>
          <a:ext cx="3733920" cy="11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5257800"/>
                    <a:ext cx="37339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720720" y="4697280"/>
            <a:ext cx="77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юда вытекает следующая связь заряда с потенциало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Близость расчетного потенциала с ПОО потенциал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0440" y="1154160"/>
            <a:ext cx="878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 распределение электронов около пылевой частицы практически больцмановско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 в этом случае эффективные граничные условия приводят к тому, что поток электронов на пылевую частицу в стационаре становится максвелловски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3680" y="5275440"/>
            <a:ext cx="685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совпадает с потоком электронов в ПО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лабая зависимость ионного тока от потенци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58680" y="3792600"/>
          <a:ext cx="708840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3792600"/>
                    <a:ext cx="70884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160" y="169560"/>
            <a:ext cx="87044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Потоки ион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0360" y="3043080"/>
            <a:ext cx="40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ая те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5600" y="5118120"/>
            <a:ext cx="4959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 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/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переходит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5680" y="3540240"/>
          <a:ext cx="614844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3540240"/>
                    <a:ext cx="61484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616040" y="5842080"/>
          <a:ext cx="562788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6040" y="5842080"/>
                    <a:ext cx="56278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498600" y="1050840"/>
            <a:ext cx="40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633680" y="1438200"/>
          <a:ext cx="5651280" cy="149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33680" y="1438200"/>
                    <a:ext cx="565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6160" y="169560"/>
            <a:ext cx="870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ПОО потенциал пылевых части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77800" y="1009800"/>
          <a:ext cx="618660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7800" y="1009800"/>
                    <a:ext cx="618660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505480" y="2700360"/>
          <a:ext cx="3340080" cy="9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5480" y="2700360"/>
                    <a:ext cx="33400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384200" y="4286160"/>
          <a:ext cx="6594480" cy="19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4200" y="4286160"/>
                    <a:ext cx="65944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Аналитическая теория  при повышенных давл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2640" y="3486240"/>
            <a:ext cx="25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ок электр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405160" y="1890720"/>
          <a:ext cx="379728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5160" y="1890720"/>
                    <a:ext cx="379728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193760" y="4118040"/>
          <a:ext cx="661824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3760" y="4118040"/>
                    <a:ext cx="66182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Слой амбиполярной диффуз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9640" y="1168560"/>
            <a:ext cx="76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потоков, пренебрегая диффузией ионов, найдем пол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93680" y="2928960"/>
            <a:ext cx="71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ерь исключим поле из уравнение баланса электронов в стационаре и, используя уравнение Пуассона, приведем его ви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839960" y="1682640"/>
          <a:ext cx="5410080" cy="12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1682640"/>
                    <a:ext cx="541008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351080" y="4595760"/>
          <a:ext cx="5925960" cy="17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1080" y="4595760"/>
                    <a:ext cx="592596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0120" y="20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Схема атомной плазменно-пылевой батаре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ar_sr90" descr=""/>
          <p:cNvPicPr/>
          <p:nvPr/>
        </p:nvPicPr>
        <p:blipFill>
          <a:blip r:embed="rId1"/>
          <a:stretch/>
        </p:blipFill>
        <p:spPr>
          <a:xfrm>
            <a:off x="1676520" y="925560"/>
            <a:ext cx="576252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ilippov_eng" descr=""/>
          <p:cNvPicPr/>
          <p:nvPr/>
        </p:nvPicPr>
        <p:blipFill>
          <a:blip r:embed="rId1"/>
          <a:stretch/>
        </p:blipFill>
        <p:spPr>
          <a:xfrm>
            <a:off x="423720" y="1546200"/>
            <a:ext cx="8069400" cy="5059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2016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Основные элементы атомной плазменно-пылевой батаре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98440"/>
            <a:ext cx="3044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Основные процессы образования эксимеров ксенона в атомной плазменно-пылевой батар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VUV%20color" descr=""/>
          <p:cNvPicPr/>
          <p:nvPr/>
        </p:nvPicPr>
        <p:blipFill>
          <a:blip r:embed="rId1"/>
          <a:stretch/>
        </p:blipFill>
        <p:spPr>
          <a:xfrm>
            <a:off x="3259080" y="285840"/>
            <a:ext cx="541332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5120" y="196920"/>
            <a:ext cx="786636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асса (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) и активность  (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) изотопа и концентрация (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ru-RU" sz="2400" spc="-1" strike="noStrike" baseline="-25000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) радиоактивных пылевых частиц радиуса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, необходимая для производства 1 Вт электрической мощности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 эффективностью 25% 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атомной плазменно-пылевой батареей объёмом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1 ли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79600" y="2325600"/>
          <a:ext cx="7957800" cy="432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325600"/>
                    <a:ext cx="7957800" cy="4321440"/>
                  </a:xfrm>
                  <a:prstGeom prst="rect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3:37:09Z</dcterms:created>
  <dc:creator>Mir</dc:creator>
  <dc:description/>
  <dc:language>en-US</dc:language>
  <cp:lastModifiedBy>Anatoly Filippov</cp:lastModifiedBy>
  <dcterms:modified xsi:type="dcterms:W3CDTF">2002-08-30T06:54:49Z</dcterms:modified>
  <cp:revision>171</cp:revision>
  <dc:subject/>
  <dc:title>ГНЦ РФ  «Троицкий институт инновационных и термоядерных исследований»</dc:title>
</cp:coreProperties>
</file>